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FE4C-1A0C-4294-9660-63453DFA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2C47-A441-43C2-AEEC-B9572621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3FE4-D81A-4F6E-854D-E6DEAE26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FBA9-2F51-49F2-B2D5-EBEB2604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B69B-6DEC-4B9F-AA29-C00810D7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382E-D4D1-4D04-8235-759B93D9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317C-D498-4905-90C6-C4C323E0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8CCF-5225-442E-A10E-3272C0A83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8DAA-B814-4357-BD54-F1E06662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575E-8222-464D-94B9-EFBE1C2FC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0745-67B6-4255-8A4B-4F3641B0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D050-6675-4645-8A17-7CB95130B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B481-0D17-4C6B-A845-B8E4B9034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nding Singap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llenges of a multi-ethnic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2 Managing perceptions of different religious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s in religious beliefs can be used to create 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a Hertogh Riots (195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2 Managing perceptions of different religious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40s, a Dutch couple was captured by the Japan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daughter, Maria Hertogh, was placed with a Malay lady, Amin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a was raised a Muslim and at 13, married a Malay tea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2 Managing perceptions of different religious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ia’s parents demanded the return of their daugh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urt trial followed and the media coverage caused much unhappiness among the Muslim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rt gave custody to the Hertog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2 Managing perceptions of different religious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uslim community felt that the British legal system was unfair towards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used anger towards the European and Eurasian commun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ots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2 Managing perceptions of different religious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ents had wide media cove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rt’s decision to annul Maria’s marriage and pictures of Maria in a Christian convent were pub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things created unhappiness in the Muslim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2 Managing perceptions of different religious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riots, there was a 24hr curfew for 2 wee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and Malayan troops, as well as the police were called in to keep the pe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iots showed that if religious issues are not handled carefully, hostility and distrust can occ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 Threats from external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national terrorism can test the social bonds of Singapore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 needs to handle this threat car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 experienced the threat of transnational terrorism in 2001 by Jemmah Islamiyah (J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 Threats from external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 members of JI were arrestedunder the Internal Security 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raised funds and purchased materials for bom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targetted the US embassy and some government buil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 Threats from external fo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JI member was arrested in April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ous political and religious leaders in Singapore called for ca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united voice, Muslim leaders condemned the JI group and emphasised that it did not have the support of Musli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 Managing perceptions of different racial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 Managing perceptions of different religious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3 Threats from external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1 Managing Perceptions of Different Racial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understanding can lead to suspicion and unhappin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 experienced racial riots in 19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6 died, 560 inju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1 Managing Perceptions of Different Racial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political approaches between Kuala Lumpur and Singapore caused a s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 worsened when PAP participated in Malaysia’s Federal El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 called for a non-communal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lays in UMNO felt threat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1 Managing Perceptions of Different Racial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i-PAP campaign organised by some UMNO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verty of Singapore Malays highligh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’s resettlement and redevelopment programs portrayed as anti-Mal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NO claimed Malays were being uproo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MNO wanted to arouse feelings of dissatisfaction among Singapore Malays towards the P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1 Managing Perceptions of Different Racial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tusan Melay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Malay newspaper) was used by UMNO to spread the anti-PAP campa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claimed that 3000 Malay families affected by resett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reality, only 2500 families were affected and only 200 were Mal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 highlighted PAP did not care about Malays in Singap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1 Managing Perceptions of Different Racial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’pore govt called for a meeting with Malay organisations in July to expl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this meeting, UMNO had a meeting with the Ma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ir fiery speeches portrayed PAP as anti-Malay and angered the Mal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1 Managing Perceptions of Different Racial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lebration of Prophet Mohammad’;s birthday (July 196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h between Chinese policemen and Malay participants turned into full-blown race ri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mage to property and loss of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1 Managing Perceptions of Different Racial Grou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de to call for ca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will committees for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ittee members went from house to house to spread the message of living peac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3:47:56Z</dcterms:created>
  <dc:creator>moe</dc:creator>
  <dc:description/>
  <dc:language>en-US</dc:language>
  <cp:lastModifiedBy>moe</cp:lastModifiedBy>
  <dcterms:modified xsi:type="dcterms:W3CDTF">2009-02-05T05:02:45Z</dcterms:modified>
  <cp:revision>2</cp:revision>
  <dc:subject/>
  <dc:title>Bonding Singapore</dc:title>
</cp:coreProperties>
</file>